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41D-CB46-4405-B742-6883EE26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25B-7467-448C-ADA4-71D5B7ED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D15-60FE-4B75-AFEC-CE6340C7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3E2-30F6-4909-B4AF-79BEB3C8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428-B773-4963-9845-8CBF9009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AF6-0E98-47DD-AA3F-CC3DCAB2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EFE-3D16-41B7-BB8A-D651A141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1EF-C2CB-4D1E-95CF-B5EB4DF3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55E-0FA1-442D-85D1-91208621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42F-3170-4D90-AA38-5B0DB494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6B6-26E7-4BEA-B21D-2428327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188-F387-4634-9F92-330D4EC6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45E4-ECF3-4648-B195-6B1D24008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pubs.usgs.gov/gip/earthq1/sc1a.gif&amp;imgrefurl=http://pubs.usgs.gov/gip/earthq1/intro.html&amp;h=400&amp;w=576&amp;sz=85&amp;hl=en&amp;start=10&amp;tbnid=sQigcBdnaKBvvM:&amp;tbnh=93&amp;tbnw=134&amp;prev=/images%3Fq%3Deffects%2Bof%2Bearthquakes%26gbv%3D2%26hl%3Den%26safe%3Dactive%26sa%3D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sastervideo.net/earthquake-geiyo-japan.ph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Joshua Arn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yan God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601200" y="228600"/>
            <a:ext cx="1165320" cy="195120"/>
          </a:xfrm>
          <a:custGeom>
            <a:avLst/>
            <a:gdLst/>
            <a:ahLst/>
            <a:rect l="l" t="t" r="r" b="b"/>
            <a:pathLst>
              <a:path w="3239" h="541">
                <a:moveTo>
                  <a:pt x="25368" y="1143"/>
                </a:moveTo>
                <a:cubicBezTo>
                  <a:pt x="25379" y="1090"/>
                  <a:pt x="25389" y="1037"/>
                  <a:pt x="25400" y="984"/>
                </a:cubicBezTo>
                <a:cubicBezTo>
                  <a:pt x="25213" y="1031"/>
                  <a:pt x="25021" y="1166"/>
                  <a:pt x="24828" y="1238"/>
                </a:cubicBezTo>
                <a:cubicBezTo>
                  <a:pt x="24448" y="1380"/>
                  <a:pt x="24055" y="1424"/>
                  <a:pt x="23654" y="1429"/>
                </a:cubicBezTo>
                <a:cubicBezTo>
                  <a:pt x="23216" y="1435"/>
                  <a:pt x="22788" y="1514"/>
                  <a:pt x="22352" y="1524"/>
                </a:cubicBezTo>
                <a:cubicBezTo>
                  <a:pt x="22289" y="1525"/>
                  <a:pt x="22225" y="1524"/>
                  <a:pt x="22162" y="1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0520" y="5121360"/>
            <a:ext cx="434880" cy="1440"/>
          </a:xfrm>
          <a:custGeom>
            <a:avLst/>
            <a:gdLst/>
            <a:ahLst/>
            <a:rect l="l" t="t" r="r" b="b"/>
            <a:pathLst>
              <a:path w="1207" h="1">
                <a:moveTo>
                  <a:pt x="2762" y="14224"/>
                </a:moveTo>
                <a:cubicBezTo>
                  <a:pt x="2360" y="14224"/>
                  <a:pt x="1958" y="14224"/>
                  <a:pt x="1556" y="1422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0" y="4857840"/>
            <a:ext cx="195120" cy="12600"/>
          </a:xfrm>
          <a:custGeom>
            <a:avLst/>
            <a:gdLst/>
            <a:ahLst/>
            <a:rect l="l" t="t" r="r" b="b"/>
            <a:pathLst>
              <a:path w="540" h="33">
                <a:moveTo>
                  <a:pt x="159" y="13494"/>
                </a:moveTo>
                <a:cubicBezTo>
                  <a:pt x="217" y="13494"/>
                  <a:pt x="234" y="13520"/>
                  <a:pt x="286" y="13526"/>
                </a:cubicBezTo>
                <a:cubicBezTo>
                  <a:pt x="420" y="13541"/>
                  <a:pt x="563" y="13526"/>
                  <a:pt x="698" y="1352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440" y="4960800"/>
            <a:ext cx="1440" cy="22320"/>
          </a:xfrm>
          <a:custGeom>
            <a:avLst/>
            <a:gdLst/>
            <a:ahLst/>
            <a:rect l="l" t="t" r="r" b="b"/>
            <a:pathLst>
              <a:path w="1" h="64">
                <a:moveTo>
                  <a:pt x="1429" y="13780"/>
                </a:moveTo>
                <a:cubicBezTo>
                  <a:pt x="1429" y="13811"/>
                  <a:pt x="1429" y="13822"/>
                  <a:pt x="1429" y="1384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1080" y="5851440"/>
            <a:ext cx="12960" cy="34920"/>
          </a:xfrm>
          <a:custGeom>
            <a:avLst/>
            <a:gdLst/>
            <a:ahLst/>
            <a:rect l="l" t="t" r="r" b="b"/>
            <a:pathLst>
              <a:path w="33" h="96">
                <a:moveTo>
                  <a:pt x="2254" y="16256"/>
                </a:moveTo>
                <a:cubicBezTo>
                  <a:pt x="2254" y="16325"/>
                  <a:pt x="2270" y="16304"/>
                  <a:pt x="2286" y="1635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9720" y="4915080"/>
            <a:ext cx="573120" cy="239400"/>
          </a:xfrm>
          <a:custGeom>
            <a:avLst/>
            <a:gdLst/>
            <a:ahLst/>
            <a:rect l="l" t="t" r="r" b="b"/>
            <a:pathLst>
              <a:path w="1589" h="668">
                <a:moveTo>
                  <a:pt x="2572" y="13652"/>
                </a:moveTo>
                <a:cubicBezTo>
                  <a:pt x="2488" y="13660"/>
                  <a:pt x="2478" y="13697"/>
                  <a:pt x="2413" y="13716"/>
                </a:cubicBezTo>
                <a:cubicBezTo>
                  <a:pt x="2354" y="13733"/>
                  <a:pt x="2277" y="13747"/>
                  <a:pt x="2222" y="13780"/>
                </a:cubicBezTo>
                <a:cubicBezTo>
                  <a:pt x="2191" y="13811"/>
                  <a:pt x="2180" y="13822"/>
                  <a:pt x="2159" y="13843"/>
                </a:cubicBezTo>
                <a:cubicBezTo>
                  <a:pt x="2181" y="13799"/>
                  <a:pt x="2136" y="13858"/>
                  <a:pt x="2254" y="13906"/>
                </a:cubicBezTo>
                <a:cubicBezTo>
                  <a:pt x="2529" y="14019"/>
                  <a:pt x="3061" y="13906"/>
                  <a:pt x="3366" y="13906"/>
                </a:cubicBezTo>
                <a:cubicBezTo>
                  <a:pt x="3088" y="13906"/>
                  <a:pt x="2816" y="13922"/>
                  <a:pt x="2540" y="13938"/>
                </a:cubicBezTo>
                <a:cubicBezTo>
                  <a:pt x="2347" y="13949"/>
                  <a:pt x="2127" y="13964"/>
                  <a:pt x="1937" y="14002"/>
                </a:cubicBezTo>
                <a:cubicBezTo>
                  <a:pt x="1878" y="14014"/>
                  <a:pt x="1795" y="14088"/>
                  <a:pt x="1778" y="14129"/>
                </a:cubicBezTo>
                <a:cubicBezTo>
                  <a:pt x="1745" y="14209"/>
                  <a:pt x="1802" y="14267"/>
                  <a:pt x="1842" y="1431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4080" y="5932440"/>
            <a:ext cx="1041480" cy="46080"/>
          </a:xfrm>
          <a:custGeom>
            <a:avLst/>
            <a:gdLst/>
            <a:ahLst/>
            <a:rect l="l" t="t" r="r" b="b"/>
            <a:pathLst>
              <a:path w="2890" h="128">
                <a:moveTo>
                  <a:pt x="5429" y="16478"/>
                </a:moveTo>
                <a:cubicBezTo>
                  <a:pt x="5543" y="16478"/>
                  <a:pt x="5640" y="16496"/>
                  <a:pt x="5747" y="16510"/>
                </a:cubicBezTo>
                <a:cubicBezTo>
                  <a:pt x="5861" y="16525"/>
                  <a:pt x="5982" y="16538"/>
                  <a:pt x="6096" y="16542"/>
                </a:cubicBezTo>
                <a:cubicBezTo>
                  <a:pt x="6258" y="16548"/>
                  <a:pt x="6410" y="16570"/>
                  <a:pt x="6572" y="16574"/>
                </a:cubicBezTo>
                <a:cubicBezTo>
                  <a:pt x="6755" y="16579"/>
                  <a:pt x="6927" y="16605"/>
                  <a:pt x="7112" y="16605"/>
                </a:cubicBezTo>
                <a:cubicBezTo>
                  <a:pt x="7514" y="16605"/>
                  <a:pt x="7916" y="16605"/>
                  <a:pt x="8318" y="1660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60480" y="4721400"/>
            <a:ext cx="182520" cy="10800"/>
          </a:xfrm>
          <a:custGeom>
            <a:avLst/>
            <a:gdLst/>
            <a:ahLst/>
            <a:rect l="l" t="t" r="r" b="b"/>
            <a:pathLst>
              <a:path w="509" h="32">
                <a:moveTo>
                  <a:pt x="2667" y="13113"/>
                </a:moveTo>
                <a:cubicBezTo>
                  <a:pt x="2841" y="13113"/>
                  <a:pt x="3003" y="13119"/>
                  <a:pt x="3175" y="131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57200" y="-5943600"/>
            <a:ext cx="9601200" cy="76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5972040"/>
            <a:ext cx="1276200" cy="88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is is a normal faul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0" y="4114800"/>
            <a:ext cx="43434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7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IKE SLIP FAULT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1066680" y="2971800"/>
            <a:ext cx="32004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8991720" y="4038480"/>
            <a:ext cx="12344400" cy="9220320"/>
          </a:xfrm>
          <a:custGeom>
            <a:avLst/>
            <a:gdLst/>
            <a:ahLst/>
            <a:rect l="l" t="t" r="r" b="b"/>
            <a:pathLst>
              <a:path w="7776" h="5808">
                <a:moveTo>
                  <a:pt x="2431" y="4295"/>
                </a:moveTo>
                <a:cubicBezTo>
                  <a:pt x="2482" y="4220"/>
                  <a:pt x="2423" y="4293"/>
                  <a:pt x="2488" y="4249"/>
                </a:cubicBezTo>
                <a:cubicBezTo>
                  <a:pt x="2501" y="4240"/>
                  <a:pt x="2507" y="4223"/>
                  <a:pt x="2521" y="4216"/>
                </a:cubicBezTo>
                <a:cubicBezTo>
                  <a:pt x="2575" y="4189"/>
                  <a:pt x="2641" y="4198"/>
                  <a:pt x="2702" y="4193"/>
                </a:cubicBezTo>
                <a:cubicBezTo>
                  <a:pt x="2806" y="4159"/>
                  <a:pt x="2899" y="4125"/>
                  <a:pt x="2951" y="4024"/>
                </a:cubicBezTo>
                <a:cubicBezTo>
                  <a:pt x="2943" y="4013"/>
                  <a:pt x="2941" y="3986"/>
                  <a:pt x="2928" y="3990"/>
                </a:cubicBezTo>
                <a:cubicBezTo>
                  <a:pt x="2905" y="3997"/>
                  <a:pt x="2900" y="4029"/>
                  <a:pt x="2883" y="4046"/>
                </a:cubicBezTo>
                <a:cubicBezTo>
                  <a:pt x="2854" y="4075"/>
                  <a:pt x="2823" y="4086"/>
                  <a:pt x="2804" y="4125"/>
                </a:cubicBezTo>
                <a:lnTo>
                  <a:pt x="2160" y="5808"/>
                </a:lnTo>
                <a:lnTo>
                  <a:pt x="1632" y="5808"/>
                </a:lnTo>
                <a:lnTo>
                  <a:pt x="1584" y="5760"/>
                </a:lnTo>
                <a:lnTo>
                  <a:pt x="1152" y="5760"/>
                </a:lnTo>
                <a:lnTo>
                  <a:pt x="1824" y="5808"/>
                </a:lnTo>
                <a:lnTo>
                  <a:pt x="192" y="3600"/>
                </a:lnTo>
                <a:lnTo>
                  <a:pt x="3600" y="3072"/>
                </a:lnTo>
                <a:lnTo>
                  <a:pt x="4128" y="4080"/>
                </a:lnTo>
                <a:cubicBezTo>
                  <a:pt x="4256" y="3984"/>
                  <a:pt x="4393" y="3899"/>
                  <a:pt x="4512" y="3792"/>
                </a:cubicBezTo>
                <a:cubicBezTo>
                  <a:pt x="4528" y="3778"/>
                  <a:pt x="4539" y="3739"/>
                  <a:pt x="4520" y="3730"/>
                </a:cubicBezTo>
                <a:cubicBezTo>
                  <a:pt x="4458" y="3700"/>
                  <a:pt x="4386" y="3700"/>
                  <a:pt x="4317" y="3696"/>
                </a:cubicBezTo>
                <a:cubicBezTo>
                  <a:pt x="4009" y="3679"/>
                  <a:pt x="4182" y="3685"/>
                  <a:pt x="3798" y="3685"/>
                </a:cubicBezTo>
                <a:cubicBezTo>
                  <a:pt x="3604" y="3545"/>
                  <a:pt x="3326" y="3477"/>
                  <a:pt x="3216" y="3264"/>
                </a:cubicBezTo>
                <a:cubicBezTo>
                  <a:pt x="3141" y="3120"/>
                  <a:pt x="3287" y="2947"/>
                  <a:pt x="3335" y="2792"/>
                </a:cubicBezTo>
                <a:cubicBezTo>
                  <a:pt x="3427" y="2493"/>
                  <a:pt x="3594" y="2133"/>
                  <a:pt x="3899" y="2002"/>
                </a:cubicBezTo>
                <a:cubicBezTo>
                  <a:pt x="3949" y="2168"/>
                  <a:pt x="3939" y="2104"/>
                  <a:pt x="3944" y="2329"/>
                </a:cubicBezTo>
                <a:cubicBezTo>
                  <a:pt x="3952" y="2711"/>
                  <a:pt x="3933" y="3332"/>
                  <a:pt x="4001" y="3752"/>
                </a:cubicBezTo>
                <a:cubicBezTo>
                  <a:pt x="4047" y="4036"/>
                  <a:pt x="4119" y="4352"/>
                  <a:pt x="4441" y="4430"/>
                </a:cubicBezTo>
                <a:cubicBezTo>
                  <a:pt x="4525" y="4451"/>
                  <a:pt x="4614" y="4437"/>
                  <a:pt x="4701" y="4441"/>
                </a:cubicBezTo>
                <a:cubicBezTo>
                  <a:pt x="4822" y="4415"/>
                  <a:pt x="4946" y="4402"/>
                  <a:pt x="5063" y="4362"/>
                </a:cubicBezTo>
                <a:cubicBezTo>
                  <a:pt x="5381" y="4255"/>
                  <a:pt x="5524" y="4158"/>
                  <a:pt x="5797" y="4001"/>
                </a:cubicBezTo>
                <a:cubicBezTo>
                  <a:pt x="5819" y="3971"/>
                  <a:pt x="5853" y="3947"/>
                  <a:pt x="5864" y="3911"/>
                </a:cubicBezTo>
                <a:cubicBezTo>
                  <a:pt x="5884" y="3845"/>
                  <a:pt x="5742" y="3801"/>
                  <a:pt x="5729" y="3798"/>
                </a:cubicBezTo>
                <a:cubicBezTo>
                  <a:pt x="5614" y="3767"/>
                  <a:pt x="5497" y="3743"/>
                  <a:pt x="5379" y="3730"/>
                </a:cubicBezTo>
                <a:cubicBezTo>
                  <a:pt x="5113" y="3701"/>
                  <a:pt x="4844" y="3692"/>
                  <a:pt x="4577" y="3673"/>
                </a:cubicBezTo>
                <a:cubicBezTo>
                  <a:pt x="3884" y="3681"/>
                  <a:pt x="3192" y="3680"/>
                  <a:pt x="2499" y="3696"/>
                </a:cubicBezTo>
                <a:cubicBezTo>
                  <a:pt x="2404" y="3698"/>
                  <a:pt x="1929" y="3765"/>
                  <a:pt x="2352" y="3707"/>
                </a:cubicBezTo>
                <a:cubicBezTo>
                  <a:pt x="3185" y="3362"/>
                  <a:pt x="4051" y="3113"/>
                  <a:pt x="4927" y="2905"/>
                </a:cubicBezTo>
                <a:cubicBezTo>
                  <a:pt x="4575" y="2811"/>
                  <a:pt x="4711" y="2829"/>
                  <a:pt x="4103" y="2894"/>
                </a:cubicBezTo>
                <a:cubicBezTo>
                  <a:pt x="3052" y="3006"/>
                  <a:pt x="3053" y="3031"/>
                  <a:pt x="2115" y="3244"/>
                </a:cubicBezTo>
                <a:cubicBezTo>
                  <a:pt x="1891" y="3358"/>
                  <a:pt x="2054" y="3271"/>
                  <a:pt x="2657" y="3131"/>
                </a:cubicBezTo>
                <a:cubicBezTo>
                  <a:pt x="3326" y="2976"/>
                  <a:pt x="4003" y="2823"/>
                  <a:pt x="4690" y="2804"/>
                </a:cubicBezTo>
                <a:cubicBezTo>
                  <a:pt x="4427" y="2877"/>
                  <a:pt x="4212" y="3045"/>
                  <a:pt x="4035" y="3244"/>
                </a:cubicBezTo>
                <a:cubicBezTo>
                  <a:pt x="4054" y="3259"/>
                  <a:pt x="4067" y="3286"/>
                  <a:pt x="4091" y="3289"/>
                </a:cubicBezTo>
                <a:cubicBezTo>
                  <a:pt x="4288" y="3311"/>
                  <a:pt x="4268" y="3297"/>
                  <a:pt x="4227" y="3256"/>
                </a:cubicBezTo>
                <a:lnTo>
                  <a:pt x="2160" y="5760"/>
                </a:lnTo>
                <a:lnTo>
                  <a:pt x="2448" y="5808"/>
                </a:lnTo>
                <a:lnTo>
                  <a:pt x="2304" y="2880"/>
                </a:lnTo>
                <a:lnTo>
                  <a:pt x="7776" y="4416"/>
                </a:lnTo>
                <a:lnTo>
                  <a:pt x="48" y="3504"/>
                </a:lnTo>
                <a:lnTo>
                  <a:pt x="3168" y="4512"/>
                </a:lnTo>
                <a:lnTo>
                  <a:pt x="4320" y="57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se 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g 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 walls are the block of rock that lie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line is a fold in rock that bends upward into a 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line is a fold in rock that bends downward to form a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walls are the rock that lie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to watch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3:44:34Z</dcterms:created>
  <dc:creator>joshuaarnold</dc:creator>
  <dc:description/>
  <dc:language>en-US</dc:language>
  <cp:lastModifiedBy>joshuaarnold</cp:lastModifiedBy>
  <dcterms:modified xsi:type="dcterms:W3CDTF">2008-02-08T14:15:45Z</dcterms:modified>
  <cp:revision>10</cp:revision>
  <dc:subject/>
  <dc:title>Earthquakes</dc:title>
</cp:coreProperties>
</file>